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C5FF-1D71-4BD7-8874-DC5C0493D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hat are the common features in these two stories that help us define human traffick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EA62-FB8E-41B0-B963-0FB2D3E8E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AC08-1DB4-4AA9-9428-FFB3D3C54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7233-E5B3-401C-A66D-9AF9E658B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524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472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4576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524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472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4D12-6F9F-4B88-977C-59B96FC6D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CB2C-3FC4-4349-884A-D3DA565035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8898-D69B-438B-AF5A-687C1C77E6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CC1C-469A-4ADA-8665-4A58D0C94C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B2F21-8741-47D9-8364-966D8F2C47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3ED75-DF4A-4094-AFF1-DF8C9F5B26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45760" y="838080"/>
            <a:ext cx="6859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7EACF-BC9A-4F07-B8C9-6E9685902A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E8BAC-52F1-408F-AD58-8CEE38AEAB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487A-ED88-4DEA-BC69-3EA0615B4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0AB0A-6CAF-40DB-9148-9BCCF503D1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6743-9537-4AF4-A747-0EB4FE4998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2E1E-2777-42AA-BD89-15BED9B3FC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C4B8-1C99-4908-ABA0-B5CC7B9C8F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6524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8472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44576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6524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8472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B04C8-BDD1-41B8-BC0C-25261F48F3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1271-602F-4743-A883-E6BEB7A90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640A-0D92-4D69-977C-4BE79F434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5688-1066-4BE7-B70D-2911215C1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5760" y="838080"/>
            <a:ext cx="6859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9B59-60AA-42BE-9E43-DEE1D4079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AE4B-9A42-43C7-A768-49E3AFAEF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62C5-9316-4B4E-AF6D-13D5872A9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4D0B-C429-4E5A-883F-F11C003FA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B3C3-5DF1-4185-B762-77A35FDE2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463840"/>
            <a:ext cx="68580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D8D1-7A5E-48BD-9D1B-BDF7B0F7B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00000" y="2420640"/>
            <a:ext cx="70106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Human Traffic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A global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A local 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685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stories – common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03640" y="1267920"/>
            <a:ext cx="31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u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s 12 years old when he was tricked into leaving his family in Bangladesh with an unknown man. They travelled to England where he was left in an Indian restaura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urvive he worked in various restaurants and lived in store rooms. He was not allowed to go to school and his life was controlled by the restaurant own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he was 28, he contacted the local police who helped him get the right documents to stay in the UK and be reunited with his fami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619280" y="1341360"/>
            <a:ext cx="32925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d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s born in West Afr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age of 15; she was sold and brought to the UK where she was held prisoner and forced to work as a prostitute – seeing up to nine men a d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felt isolated and scared in a country where she was totally alone. Candy stayed in the brothel because she was told that if she tried to leave, her family in Africa would be punis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dy eventually escaped and found help at the police st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is now rebuilding her li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2360" y="1557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s human traffick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12000" y="3284640"/>
            <a:ext cx="212220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76360" y="1844640"/>
            <a:ext cx="576108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OVEMEN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RECRUIT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CEPTI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XPLO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79640" y="620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afficking is NOT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198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mugg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45370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afficking: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facts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 fig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st growing international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ne day, while you are doing a 9 – 5 job, 480 people will be trafficked internatio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0% of victims are fem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% ar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 children a minute are trafficked for sexual 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0% of all women who are trafficked are sexually explo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s every country, every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70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do trafficking victims end up?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60680" y="423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1989000"/>
            <a:ext cx="4174920" cy="82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your high street:                                  forced begging, street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sex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domestic ser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clothes / chocolate  /       mobile phones / lap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in agriculture /                                food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nnabis cultivation ho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084720" y="1916280"/>
            <a:ext cx="2386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763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at's the problem, what’s the solution?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2565360"/>
            <a:ext cx="66978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trafficking starts in a </a:t>
            </a:r>
            <a:r>
              <a:rPr b="0" lang="en-GB" sz="3800" spc="-1" strike="noStrike">
                <a:solidFill>
                  <a:srgbClr val="e6007d"/>
                </a:solidFill>
                <a:latin typeface="Arial"/>
              </a:rPr>
              <a:t>community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and it will be stopped by the </a:t>
            </a:r>
            <a:r>
              <a:rPr b="0" lang="en-GB" sz="3800" spc="-1" strike="noStrike">
                <a:solidFill>
                  <a:srgbClr val="e6007d"/>
                </a:solidFill>
                <a:latin typeface="Arial"/>
              </a:rPr>
              <a:t>community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P THE TRAFFI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475920"/>
            <a:ext cx="6859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1341360"/>
            <a:ext cx="6985080" cy="49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oda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 up to STOP THE TRAFFIK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omorrow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ing awareness is crucial, tell someone how trafficking affects thei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his mon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What’s happening in your neighbourhood? Become an </a:t>
            </a:r>
            <a:r>
              <a:rPr b="1" lang="en-GB" sz="2500" spc="-1" strike="noStrike">
                <a:solidFill>
                  <a:srgbClr val="9fceee"/>
                </a:solidFill>
                <a:latin typeface="Arial"/>
              </a:rPr>
              <a:t>ACTIVE COMMUNITY </a:t>
            </a:r>
            <a:r>
              <a:rPr b="1" i="1" lang="en-GB" sz="2500" spc="-1" strike="noStrike">
                <a:solidFill>
                  <a:srgbClr val="9fceee"/>
                </a:solidFill>
                <a:latin typeface="Arial"/>
              </a:rPr>
              <a:t>against</a:t>
            </a:r>
            <a:r>
              <a:rPr b="1" lang="en-GB" sz="2500" spc="-1" strike="noStrike">
                <a:solidFill>
                  <a:srgbClr val="9fceee"/>
                </a:solidFill>
                <a:latin typeface="Arial"/>
              </a:rPr>
              <a:t> TRAFFICK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his autumn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for Freedom!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out 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Freedom Ticket for Lif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STOP THE TRAFFIK’s latest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8:54:06Z</dcterms:created>
  <dc:creator>Office 2004 Test Drive User</dc:creator>
  <dc:description/>
  <dc:language>en-US</dc:language>
  <cp:lastModifiedBy>Victoria Kuhr</cp:lastModifiedBy>
  <dcterms:modified xsi:type="dcterms:W3CDTF">2010-06-11T09:30:48Z</dcterms:modified>
  <cp:revision>140</cp:revision>
  <dc:subject/>
  <dc:title>THE NEED FOR ACTION</dc:title>
</cp:coreProperties>
</file>