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DCCD-8D7B-4C9F-8DB2-8C44A638B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are the common features in these two stories that help us define human traffic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DCDD-B709-4D85-88AE-903B66E52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3545-D572-4C76-A368-4D7424263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EFAE-6599-4A04-860F-47014A538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DD2E-80FD-4BE9-A1C5-82B38DC8A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91E5-7452-4155-A710-877ACE25F8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FA38-8E36-4EB7-BBF7-5EF15B8E46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BA3A-422C-4A71-89CA-B44DD5DCFD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B71A-0D2A-4D56-9057-34C04E6F3D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2DDA-2530-4E1B-A918-A932D58D6C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172B-F5E7-4F07-9BF8-9A681E970D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8B7E-0D2D-4F63-8B60-E172D40ADB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3356-45AA-473B-951C-571234A0D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24CE-5E7B-49E1-8764-3BAFD3DDC1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29B0-B0DB-46CD-9C41-A49946D27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B37D-43B0-4F3A-8C8A-84A112AA3E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A0C2-9C3E-4F8E-9157-DD1A8A9C9D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AECC-5D47-4AF0-923A-D0FB3542B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1281-76BD-409F-A2A4-27C78EF6D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B61F-89C8-4440-9622-3E309BE66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1153-EF3A-40CC-AFD4-0FA436C62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AC0C-F821-47E3-931A-28B7CEB32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C1D9-BD7F-4608-B7C4-302B069FA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6CDE-E823-47E2-ACC1-0CF4E7B44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2BEE-CD98-4AB1-84A7-69E7454AD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9E56-BE26-45B3-B087-1F274938C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463840"/>
            <a:ext cx="68580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D9F8-CC0C-4AA5-A5A7-8E80A8904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00000" y="2420640"/>
            <a:ext cx="7010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Human Traffi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global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local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85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stories – commo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3640" y="1267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12 years old when he was tricked into leaving his family in Bangladesh with an unknown man. They travelled to England where he was left in an Indian restaur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rvive he worked in various restaurants and lived in store rooms. He was not allowed to go to school and his life was controlled by the restaurant own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he was 28, he contacted the local police who helped him get the right documents to stay in the UK and be reunited with his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619280" y="1341360"/>
            <a:ext cx="3292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born in West Af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age of 15; she was sold and brought to the UK where she was held prisoner and forced to work as a prostitute – seeing up to nine men a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felt isolated and scared in a country where she was totally alone. Candy stayed in the brothel because she was told that if she tried to leave, her family in Africa would be pun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y eventually escaped and found help at the police s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is now rebuilding her li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1557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human traffick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212220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76360" y="1844640"/>
            <a:ext cx="57610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VEMEN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RECRUIT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CEP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79640" y="62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 is NO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mugg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5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: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acts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fig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st growing international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ne day, while you are doing a 9 – 5 job, 480 people will be trafficked internati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% of victims are fe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% 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children a minute are trafficked for sexual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0% of all women who are trafficked are sexually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s every country, every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70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do trafficking victims end up?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423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89000"/>
            <a:ext cx="4174920" cy="82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your high street:                                  forced begging, street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sex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domestic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clothes / chocolate  /       mobile phones / 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in agriculture /                                food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nnabis cultivation h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84720" y="1916280"/>
            <a:ext cx="23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63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t's the problem, what’s the solution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2565360"/>
            <a:ext cx="66978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rafficking starts in a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and it will be stopped by the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 THE TRAFFI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475920"/>
            <a:ext cx="6859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341360"/>
            <a:ext cx="69850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da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 up to STOP THE TRAFFIK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morrow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ing awareness is crucial, tell someone how trafficking affects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mon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What’s happening in your neighbourhood? Become an 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ACTIVE COMMUNITY </a:t>
            </a:r>
            <a:r>
              <a:rPr b="1" i="1" lang="en-GB" sz="2500" spc="-1" strike="noStrike">
                <a:solidFill>
                  <a:srgbClr val="9fceee"/>
                </a:solidFill>
                <a:latin typeface="Arial"/>
              </a:rPr>
              <a:t>against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 TRAFFIC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autumn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for Freedom!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Freedom Ticket for Lif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STOP THE TRAFFIK’s latest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8:54:06Z</dcterms:created>
  <dc:creator>Office 2004 Test Drive User</dc:creator>
  <dc:description/>
  <dc:language>en-US</dc:language>
  <cp:lastModifiedBy>Victoria Kuhr</cp:lastModifiedBy>
  <dcterms:modified xsi:type="dcterms:W3CDTF">2010-06-11T09:30:48Z</dcterms:modified>
  <cp:revision>140</cp:revision>
  <dc:subject/>
  <dc:title>THE NEED FOR ACTION</dc:title>
</cp:coreProperties>
</file>