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7BFF-6AB0-4CC1-8D4E-0CC933378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hat are the common features in these two stories that help us define human traffick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21633-4DE7-4BA8-9644-24D864748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7785-C057-417F-9D1F-50A1C9B4C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DFF7F-6E61-401A-8FA9-32AC59B48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524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472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4576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524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472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A500-F8A8-433E-89DC-2A83D0C2E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E69FA-D8A2-423B-99AE-A00A235250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60315-B376-4D7A-B1B3-1428837A8B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8C6D1-DA39-4C97-994B-FF0A36FF7B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CA72D-A1CA-4F91-91FA-AB1EA62178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CCFAC-376F-4AF8-B1BB-647D9D78B6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45760" y="838080"/>
            <a:ext cx="6859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9BD3F-A0F2-4B67-B65E-5E9BD9FE97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51BB2-D4B0-4370-9D9D-5EAD260132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0149-B354-4A2E-9E82-B6C6F8D38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FA823-C640-4DF1-B1BC-DD02B47599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D2D6A-FFF6-4944-8F81-5A2E567CF7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6199-CC31-47F1-85DF-5DBCC79774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E6864-8E62-445F-AC71-1C800CFF9D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6524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8472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44576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6524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8472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868FD-591D-46CB-B973-2ADE641698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1D397-0BFF-47CB-AE32-04BF8F830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6241-3632-41C9-802A-9985CB9FD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66A74-1E9F-4591-9E47-2F04939B8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45760" y="838080"/>
            <a:ext cx="6859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35D44-1131-4F66-9CDC-E870B40A9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AA24-DA1B-413D-BDDE-96AA2237C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C98D-6CE2-489B-B22C-DC1332A30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C831-9DDB-4781-8066-EBFA12B18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79C6-2107-4907-8B03-D50375E42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2463840"/>
            <a:ext cx="68580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C81F-6BA6-4224-95A9-433BF3160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00000" y="2420640"/>
            <a:ext cx="70106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Neue LT 65 Medium"/>
                <a:ea typeface="Times New Roman"/>
              </a:rPr>
              <a:t>Human Traffic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Neue LT 65 Medium"/>
                <a:ea typeface="Times New Roman"/>
              </a:rPr>
              <a:t>A global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Neue LT 65 Medium"/>
                <a:ea typeface="Times New Roman"/>
              </a:rPr>
              <a:t>A local iss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685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fferent stories – common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03640" y="1267920"/>
            <a:ext cx="316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u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s 12 years old when he was tricked into leaving his family in Bangladesh with an unknown man. They travelled to England where he was left in an Indian restaura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urvive he worked in various restaurants and lived in store rooms. He was not allowed to go to school and his life was controlled by the restaurant own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he was 28, he contacted the local police who helped him get the right documents to stay in the UK and be reunited with his fami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619280" y="1341360"/>
            <a:ext cx="32925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d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s born in West Afri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age of 15; she was sold and brought to the UK where she was held prisoner and forced to work as a prostitute – seeing up to nine men a da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 felt isolated and scared in a country where she was totally alone. Candy stayed in the brothel because she was told that if she tried to leave, her family in Africa would be punis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dy eventually escaped and found help at the police st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 is now rebuilding her lif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32360" y="1557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is human traffickin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12000" y="3284640"/>
            <a:ext cx="2122200" cy="1800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76360" y="1844640"/>
            <a:ext cx="576108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OVEMEN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RECRUIT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CEPTIO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FO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XPLOI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79640" y="6206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rafficking is NOT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198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mugg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56000" y="3068640"/>
            <a:ext cx="45370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rafficking: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facts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 fig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st growing international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ne day, while you are doing a 9 – 5 job, 480 people will be trafficked internation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0% of victims are fem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% ar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 children a minute are trafficked for sexual explo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0% of all women who are trafficked are sexually explo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s every country, everyw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70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do trafficking victims end up?</a:t>
            </a:r>
            <a:br>
              <a:rPr sz="32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60680" y="423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1989000"/>
            <a:ext cx="4174920" cy="82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your high street:                                  forced begging, street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sex indu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a domestic ser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ing clothes / chocolate  /       mobile phones / lap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in agriculture /                                food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nnabis cultivation ho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084720" y="1916280"/>
            <a:ext cx="2386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763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at's the problem, what’s the solution?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2565360"/>
            <a:ext cx="669780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trafficking starts in a </a:t>
            </a:r>
            <a:r>
              <a:rPr b="0" lang="en-GB" sz="3800" spc="-1" strike="noStrike">
                <a:solidFill>
                  <a:srgbClr val="e6007d"/>
                </a:solidFill>
                <a:latin typeface="Arial"/>
              </a:rPr>
              <a:t>community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 and it will be stopped by the </a:t>
            </a:r>
            <a:r>
              <a:rPr b="0" lang="en-GB" sz="3800" spc="-1" strike="noStrike">
                <a:solidFill>
                  <a:srgbClr val="e6007d"/>
                </a:solidFill>
                <a:latin typeface="Arial"/>
              </a:rPr>
              <a:t>community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P THE TRAFFIK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475920"/>
            <a:ext cx="6859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DO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1341360"/>
            <a:ext cx="6985080" cy="49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oday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 up to STOP THE TRAFFIK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omorrow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ising awareness is crucial, tell someone how trafficking affects thei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his mon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What’s happening in your neighbourhood? Become an </a:t>
            </a:r>
            <a:r>
              <a:rPr b="1" lang="en-GB" sz="2500" spc="-1" strike="noStrike">
                <a:solidFill>
                  <a:srgbClr val="9fceee"/>
                </a:solidFill>
                <a:latin typeface="Arial"/>
              </a:rPr>
              <a:t>ACTIVE COMMUNITY </a:t>
            </a:r>
            <a:r>
              <a:rPr b="1" i="1" lang="en-GB" sz="2500" spc="-1" strike="noStrike">
                <a:solidFill>
                  <a:srgbClr val="9fceee"/>
                </a:solidFill>
                <a:latin typeface="Arial"/>
              </a:rPr>
              <a:t>against</a:t>
            </a:r>
            <a:r>
              <a:rPr b="1" lang="en-GB" sz="2500" spc="-1" strike="noStrike">
                <a:solidFill>
                  <a:srgbClr val="9fceee"/>
                </a:solidFill>
                <a:latin typeface="Arial"/>
              </a:rPr>
              <a:t> TRAFFICK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his autumn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 for Freedom!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eck out 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Freedom Ticket for Lif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STOP THE TRAFFIK’s latest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8:54:06Z</dcterms:created>
  <dc:creator>Office 2004 Test Drive User</dc:creator>
  <dc:description/>
  <dc:language>en-US</dc:language>
  <cp:lastModifiedBy>Victoria Kuhr</cp:lastModifiedBy>
  <dcterms:modified xsi:type="dcterms:W3CDTF">2010-06-11T09:30:48Z</dcterms:modified>
  <cp:revision>140</cp:revision>
  <dc:subject/>
  <dc:title>THE NEED FOR ACTION</dc:title>
</cp:coreProperties>
</file>