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B341-DC5B-4905-8844-925C31273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hat are the common features in these two stories that help us define human traffick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06C5-4497-477B-B4B3-5B5485205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45760" y="438228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083E-1250-4091-8F6D-AAB778308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080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FA8F-C024-44A8-AEDD-E517DD7CE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524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472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4576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524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472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660C-427A-479C-9254-9C8C21490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88AA1-A86A-44E2-8B06-DA71731E41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9030E-03D9-4065-91B2-9D33C0FB5F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CF0AD-49F5-465A-A418-C972C1A2BC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4CCBF-AC35-4ED3-8DD8-DFA871F15A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B198B-98B6-4F78-B3C9-2693656094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45760" y="838080"/>
            <a:ext cx="68598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6ADD4-475C-4AB2-AF22-2024A104C5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45775-EB9C-4F55-95A5-D73AFAB78D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7F358-9A4C-43BC-AB15-D8950AD9C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6080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BB580-3BF2-4592-922E-DDE7BE5D1B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CE854-181B-482D-87F8-9963CEEBAC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445760" y="438228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BC9FE-2A82-4F33-BF35-AD074818FF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6080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726F5-474A-448C-BFCE-A1F5CEE659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6524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84720" y="250812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44576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6524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84720" y="4382280"/>
            <a:ext cx="2208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33094-807E-4D34-82CF-E819930B35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09B8-B2A9-4138-872C-E112BEA34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30B4-C7DE-4DC9-86FC-F204637C0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0B52F-FDB9-4F3E-AAE5-01C5E2E7F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45760" y="838080"/>
            <a:ext cx="68598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04C86-C39C-4928-8A0B-0EFEE4B1B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FA77-B316-4E4C-AB59-2CE58B64E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0800" y="438228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BA50-86D0-495E-BAD7-1956DF005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576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0800" y="2508120"/>
            <a:ext cx="334728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5760" y="4382280"/>
            <a:ext cx="68598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23EA3-427C-4C50-9900-996088D13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5760" y="2508120"/>
            <a:ext cx="685980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4531-89F8-4962-AFD9-4D04D7FF4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2463840"/>
            <a:ext cx="68580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BA28-DEDF-423B-B52F-5E33EB1C6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00000" y="2420640"/>
            <a:ext cx="70106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Neue LT 65 Medium"/>
                <a:ea typeface="Times New Roman"/>
              </a:rPr>
              <a:t>Human Traffic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Neue LT 65 Medium"/>
                <a:ea typeface="Times New Roman"/>
              </a:rPr>
              <a:t>A global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Neue LT 65 Medium"/>
                <a:ea typeface="Times New Roman"/>
              </a:rPr>
              <a:t>A local iss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685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fferent stories – common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03640" y="1267920"/>
            <a:ext cx="316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u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s 12 years old when he was tricked into leaving his family in Bangladesh with an unknown man. They travelled to England where he was left in an Indian restaura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urvive he worked in various restaurants and lived in store rooms. He was not allowed to go to school and his life was controlled by the restaurant own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he was 28, he contacted the local police who helped him get the right documents to stay in the UK and be reunited with his fami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619280" y="1341360"/>
            <a:ext cx="32925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d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s born in West Afri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e age of 15; she was sold and brought to the UK where she was held prisoner and forced to work as a prostitute – seeing up to nine men a da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 felt isolated and scared in a country where she was totally alone. Candy stayed in the brothel because she was told that if she tried to leave, her family in Africa would be punis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dy eventually escaped and found help at the police st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 is now rebuilding her lif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32360" y="1557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5760" y="8380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is human traffickin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12000" y="3284640"/>
            <a:ext cx="2122200" cy="1800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76360" y="1844640"/>
            <a:ext cx="576108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OVEMEN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RECRUIT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CEPTIO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FO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XPLOI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79640" y="6206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rafficking is NOT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198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mugg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56000" y="3068640"/>
            <a:ext cx="453708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85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rafficking: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facts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 fig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st growing international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ne day, while you are doing a 9 – 5 job, 480 people will be trafficked internation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0% of victims are fem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% ar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 children a minute are trafficked for sexual explo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0% of all women who are trafficked are sexually explo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s every country, everyw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70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do trafficking victims end up?</a:t>
            </a:r>
            <a:br>
              <a:rPr sz="32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60680" y="423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1989000"/>
            <a:ext cx="4174920" cy="82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your high street:                                  forced begging, street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sex indus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a domestic ser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ing clothes / chocolate  /       mobile phones / lap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ing in agriculture /                                food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nnabis cultivation hou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084720" y="1916280"/>
            <a:ext cx="2386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763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at's the problem, what’s the solution?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2565360"/>
            <a:ext cx="669780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trafficking starts in a </a:t>
            </a:r>
            <a:r>
              <a:rPr b="0" lang="en-GB" sz="3800" spc="-1" strike="noStrike">
                <a:solidFill>
                  <a:srgbClr val="e6007d"/>
                </a:solidFill>
                <a:latin typeface="Arial"/>
              </a:rPr>
              <a:t>community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 and it will be stopped by the </a:t>
            </a:r>
            <a:r>
              <a:rPr b="0" lang="en-GB" sz="3800" spc="-1" strike="noStrike">
                <a:solidFill>
                  <a:srgbClr val="e6007d"/>
                </a:solidFill>
                <a:latin typeface="Arial"/>
              </a:rPr>
              <a:t>community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P THE TRAFFIK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475920"/>
            <a:ext cx="6859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YOU DO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1341360"/>
            <a:ext cx="6985080" cy="49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ace9d"/>
                </a:solidFill>
                <a:latin typeface="Arial"/>
              </a:rPr>
              <a:t>Today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 up to STOP THE TRAFFIK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ace9d"/>
                </a:solidFill>
                <a:latin typeface="Arial"/>
              </a:rPr>
              <a:t>Tomorrow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ising awareness is crucial, tell someone how trafficking affects thei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ace9d"/>
                </a:solidFill>
                <a:latin typeface="Arial"/>
              </a:rPr>
              <a:t>This mon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What’s happening in your neighbourhood? Become an </a:t>
            </a:r>
            <a:r>
              <a:rPr b="1" lang="en-GB" sz="2500" spc="-1" strike="noStrike">
                <a:solidFill>
                  <a:srgbClr val="9fceee"/>
                </a:solidFill>
                <a:latin typeface="Arial"/>
              </a:rPr>
              <a:t>ACTIVE COMMUNITY </a:t>
            </a:r>
            <a:r>
              <a:rPr b="1" i="1" lang="en-GB" sz="2500" spc="-1" strike="noStrike">
                <a:solidFill>
                  <a:srgbClr val="9fceee"/>
                </a:solidFill>
                <a:latin typeface="Arial"/>
              </a:rPr>
              <a:t>against</a:t>
            </a:r>
            <a:r>
              <a:rPr b="1" lang="en-GB" sz="2500" spc="-1" strike="noStrike">
                <a:solidFill>
                  <a:srgbClr val="9fceee"/>
                </a:solidFill>
                <a:latin typeface="Arial"/>
              </a:rPr>
              <a:t> TRAFFICK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ace9d"/>
                </a:solidFill>
                <a:latin typeface="Arial"/>
              </a:rPr>
              <a:t>This autumn</a:t>
            </a:r>
            <a:r>
              <a:rPr b="1" lang="en-GB" sz="2400" spc="-1" strike="noStrike">
                <a:solidFill>
                  <a:srgbClr val="e6007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e6007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 for Freedom!</a:t>
            </a:r>
            <a:r>
              <a:rPr b="1" lang="en-GB" sz="2400" spc="-1" strike="noStrike">
                <a:solidFill>
                  <a:srgbClr val="e6007d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eck out </a:t>
            </a:r>
            <a:r>
              <a:rPr b="1" lang="en-GB" sz="2400" spc="-1" strike="noStrike">
                <a:solidFill>
                  <a:srgbClr val="e6007d"/>
                </a:solidFill>
                <a:latin typeface="Arial"/>
              </a:rPr>
              <a:t>Freedom Ticket for Lif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STOP THE TRAFFIK’s latest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8:54:06Z</dcterms:created>
  <dc:creator>Office 2004 Test Drive User</dc:creator>
  <dc:description/>
  <dc:language>en-US</dc:language>
  <cp:lastModifiedBy>Victoria Kuhr</cp:lastModifiedBy>
  <dcterms:modified xsi:type="dcterms:W3CDTF">2010-06-11T09:30:48Z</dcterms:modified>
  <cp:revision>140</cp:revision>
  <dc:subject/>
  <dc:title>THE NEED FOR ACTION</dc:title>
</cp:coreProperties>
</file>